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CF1E-BFA6-4C9A-9828-BF2E99A5E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1EA9-CAE7-496E-9494-9C0BAF3B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006C6-5B29-4256-980C-5B7781C7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4501B-76AB-4C6A-A010-C8903A1E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A15D0-6F8B-44B1-A2E3-7D07053E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FBDE3-BB91-4646-B45C-022A722B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0DE03-5CA9-4200-A8D4-3C75AC02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68C3E-83F0-4824-B14B-F3A62B73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EF99F-D2EF-4754-B033-66DF8093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309D8-B8B9-49C1-9A47-EFEA1264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482B4-AE1C-4A37-91C8-583E87DE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D30EB4-1176-4F3D-9597-765F7CBA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4575-AAD7-42BC-B1BF-EE22F46F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1AB67-890A-40E2-87BC-F31A9096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E7C68-0E6B-4F97-9D91-D97DD677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94BB8-5DC3-4522-9592-A971E695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F7026-BAB2-4C2D-9332-E2209727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7910B-4620-4022-8215-70D8C290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56910-7B5A-4658-BC16-DABDF37C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7A099-A1E0-46D3-98E9-400415F8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D740D-E07E-4760-B5BA-D9604B97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F8E2B1-B0D1-4728-9871-84F8AA16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B81F0-C8C4-4CE3-892F-8D38B8E1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6653-6D92-45E2-B7B3-E953B300B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720DE-AEE7-4396-8099-C11000E0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3558D-5595-4124-B1E4-497E42ED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59B2E-C87E-4899-8B69-77B8A8DD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A3A35-CB88-4156-99B2-7E5D6224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F51FC-D8DC-4FDD-AE02-5B4DBC52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6898F-B8E8-48F3-8AF5-811C7245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0809C-A83F-4F6B-A75C-4EA8B272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05E85-7B36-4BDD-95A3-7D821BDA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47CEB-FE7B-4217-B6A9-D6011267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69972-38B0-4545-9326-B2D20D80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F16E-9EC4-495B-B8BD-C39590CC7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09E0B-22BE-449E-AB7A-F5EFC9CF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91612-77B6-4301-A9C0-CF556B2FA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DDC58-290D-4FA2-8E58-8BBD3335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4F57D-6722-4DAE-B36E-06FC8B0F8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AB8B6E-8A04-4D55-9973-2C95A6BE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040C8-FDD0-4AB3-A361-901CC0F9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2D0A02-DDE9-4CE4-A699-579DE3C6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E97D1-CF75-49B6-88E2-8AD53FB5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45125-7C23-483C-95FE-23262C0D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8C7BE3-43CA-4B4E-9516-54E6E8A1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D987-1090-4E4E-89A8-03A69C5D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F815D1-9C62-4657-A290-9F832E50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A99FDD-7AC4-427C-A8AA-34345C52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886F02-312F-434C-A860-515D6C64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6A7B1B-D8AF-4A72-8A52-E7652F32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978B74-E963-45C4-9CB8-09DCCD4CD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8340FB-B868-4079-ABF9-899A5D4AE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69171A-1C7A-4584-9E86-EBEB26DC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CF2C3A-EBBC-4408-8D26-34F69D73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0A73AB-3B74-40A7-AFDF-F4FBBC48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40B7D5-F13A-4BF2-AB1F-7557BBC6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A8E2-7692-4884-9FE3-8C840F5C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3A40C1-D601-4844-B271-DAB1E63E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A664FE-67F3-4016-B89E-0EE44300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C50066-F140-47DC-857E-539D8EE1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02F404-AC69-4A73-91D0-46ABF991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FE9A85-DFC0-4444-B538-260B206C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660704-7130-476D-9B3A-62D018F5D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6A2EBF-F0B5-43BA-B048-059D7AB63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43A7AD-A125-46B9-8771-87DB6802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E64DBA-6554-44A9-B705-90D321F8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F5E830-C078-48B4-8E67-BBE31C79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E8DC-F9BB-4667-8BB0-00C8DEA3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9D5C6B-AB40-4E51-8AC4-D9050AD2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02B84E-31E8-455A-9C6C-D6B8B63B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686726-6023-4D08-8229-71F1EF63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69C8B6-476F-4606-9D16-5B20D2B4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8E5E32-ABA7-4031-BAEE-E19FD2CA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EF0D3D-3FA6-4397-9569-00777F78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1AADD1-87A0-4E5A-BE34-5C3BFE0F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7701A4-A331-4838-BF20-1EEFCD72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7C1A43-894C-4AB3-BF41-59E39404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9B4D17-0CED-4C46-9E92-943E0C78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D815-53D6-40C5-8527-47FC2207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FA12F9-B0C8-436A-9D4E-6CA9D6A2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317849-258E-4385-AD1E-DD9C681F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43F198-34E0-458E-82F7-EF61F223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084C6D-DDBA-49B9-99C1-F0F760ED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B9466C-CF45-449A-B5A3-6AC8D4D9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CF17AB-2A63-4C99-8B80-E98B55A8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850495-7CFC-4D90-A704-228B757E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4C8B35-6FED-4F98-B3A9-AB2843DC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730C7A-B6EE-4718-8F89-0D6A476B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ACBF30-CEB3-40D2-8315-054DCAB28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A613-01A9-44D0-B362-A344D86A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9ECFE1-C41D-4E06-8EB7-BD2B1F50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886BAF-CDF4-4B9A-87AD-D166D853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B604F9-9D9C-4FCC-88AA-26E189A3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1AD0C4-9A49-46FE-B605-9F2142B2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EF316E-9F37-4340-A40A-46F7C9C0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F17A57-4FA2-48B2-9318-3E3D7159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9C1B81-1E12-4DA8-9A5B-D0F4A084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49BD26-3278-4ACE-9563-474FE2AE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61A89B-A60D-4AF4-BEE1-FFB535A3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F0B0D9-8C88-47F2-A25A-13DA8C86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9EEE-D725-4FB4-89AE-B53E56F6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1A4078-3EB7-4271-81A3-CEC5454F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D90408-A74D-4F78-81FB-24FD2181C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32A220-3D31-4CEA-9D60-47046914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B95649-38C4-4D11-A9B2-8D5100F9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76702D-4AEA-4B6E-91F6-F54A8894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C7D51F-9F5A-425E-909E-EAE19360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D2872C-2766-4223-A0F2-361CB0B4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62B93D-CFB5-4549-BC33-24A0C08C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5644B6-2FAC-4CD7-861A-1B7C0389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BDAD66-15E5-4B5D-9859-9E363366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94D7-74C3-492A-8C55-6BC2753E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80C5-7F84-41DD-B210-8D2248FB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1B66B6-FB39-46CF-9447-8406505D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07B52A-627A-4CA3-8001-03954B48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DC9941-EDE4-4434-894C-78E0CE71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9F5EF2-B7CD-482D-8B6B-BF29B955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8155DC-7B6F-46CF-BEAF-7D52CDBB5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80B64F-134D-4131-BEE3-F41EBA9B7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C0DE0F-664F-4A49-9F47-1DFE3285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953B51-9CC2-47DF-9D5E-E1E673E8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5616FB-F217-428A-81E4-54CBEE48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BCE273-CC37-44F9-9881-98EEDEF9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CA1B-A3E6-4B10-88E5-7BFBE285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0F7F52-011A-4CB8-A06E-3ACB8023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94EDC8-EE3A-48CB-B2E3-63288384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C0B697-EFE4-4E36-8336-5F231507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A3754B-EBFD-4D3E-9D14-A1DAA1ED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82DB33-E3F5-4633-BD49-86041969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0D8CD3-219C-4127-9691-0411AD6C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2792D3-F0FE-41D4-B6A9-D1CC2290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D58467-E76C-4D17-B828-08F6771C4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660B9C-A067-4909-A025-949C34EF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0C9D11-911D-4996-B996-F1F8A50F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DA32-FCBE-4841-8D06-ED384FBC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4A698E-6DE6-46CF-A122-E39729AE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62B394-821C-4365-B332-9F3A6CA5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F85B22-6748-4A4D-BCD3-ADCA2330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059339-FF2B-4D77-91BD-5EAF2AA5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A10FC7-6486-4FDF-AAE3-2982E972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5BE170-A356-4E0D-8391-F0B4C7ED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AC7C03-8883-4059-8F24-14CEF4E7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CA89B4-5DB4-4ED2-8A19-696287D7B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AB3A69-0C59-4A6A-AA9C-433AA33E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15E4F3-5AB0-4611-A2D9-89AD0E1A9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F30F-9111-4A5E-AB15-09BCE18F2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46C9A2-BE53-477A-875F-02366F3D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63EF01-575B-43B9-9F32-611624F1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A683AA-ACB5-4A6F-AC99-5A94C72C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69EFE7-56BB-4438-963B-BF62E5BF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18321B-61ED-422E-81E3-11F977F8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E7D7C8-9F0F-4D98-ACD8-01B7AC9A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1E16DA-4DD8-4344-8BBF-8B08A12C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8A3375-90A0-436A-9582-00D55C63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EDC159-287F-459F-934F-95ECDCA1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7635DC-5940-4A87-9908-4741DDDDB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EB7C-1C9F-40CF-BEB1-A10FED86C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2B49AA-AE26-49C5-9642-8BED8C09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FF4408-15CC-4553-9C88-7FD16EFB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9E763E-3AB9-4487-8985-6CEA7078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CB84D9-A77F-45C5-B74D-F1F1C329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097AB2-AB86-4557-A577-E6275BA5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AA34F2-471C-44A4-9E89-1C27D5CA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A761B7-B9C3-4FBE-9534-D89B1C00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8FED7C-0FDC-44E4-9C99-F1A4BDC3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561B52-8A31-4198-9C96-8B9038CC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7E2BA5-DBDD-422E-9AA5-945C57AC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05FA4-445B-491F-A727-84EB1580B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211464-F9ED-42A7-9AA1-AD89C032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11C4CC-86ED-436E-A701-1CD3431BA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A7410C-8148-4C36-92EF-7A2EC591A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2ACCB-6299-4978-BF99-60155D15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8EDA0-DE0F-4098-9B12-B4AC4496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069C7-25AC-4B01-9889-041E920A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B2C07-218D-4DFD-978B-C8C7A538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76A6-36BC-4BFE-A829-BE35132A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79AED-BFAE-4CCE-B6E9-611F4638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54117-5F28-4A00-B30E-7044BD80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32DCB-646A-4B41-9B5D-E82683C9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CF96F-5B27-4C4C-8975-CD82E7B3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E4117-59D2-46AC-A724-871B48F2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53CA1-FC9D-4BBF-8950-80FC97049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81D04-C255-4610-8268-7CBC02F38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A430A-8A2E-460F-869B-822E4F8FC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2E46A-0DE4-4523-A015-4994D2DD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02C06-440A-4347-A104-5FF03C9C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7047-1668-485E-9894-8DF3855A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FC272-BA2B-42D9-882C-F7FA1197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5ABF4-62EC-408D-B54E-099A00E2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40847-D645-47AB-B0E5-1C95ECD8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D0371-38BE-462F-8FD0-2A9241F2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AC57C-7EFE-4B16-9B2C-133C240A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E3598-D741-47AA-A35F-41EE58FB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ABDF5-CB73-41F7-881E-54CE8371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4CBD3-2131-49A2-B79E-1AEC0D33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E2C11-A8D8-4AD3-9253-6D5DD1567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0C75F-4F71-4175-9AAD-AB7A3118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F062-F7B2-45F0-9591-E3C72739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0B5F7-89B7-45A3-A199-B2AAC6C0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9A481-1686-4749-AB6D-B196D0A1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10B04-C7FF-4E27-8357-D813066A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0C103-9D44-4B0D-8909-E0BC23D0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DC94C-5DE7-48EA-8BBA-DF22AF76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E0DB2-09A4-47F2-A1D0-BFB1A0FB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F7525-8E65-4D44-BDC7-87AA9EAE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A854E-8471-4D50-9B50-414C40A0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7A625-AF07-4015-8560-15793F3A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AFC8F-50D2-442C-A333-39C5150D1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D0B6-BCF1-461E-9438-F842AE78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C2E1E-DEBF-40EB-A87A-F3B043814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503D9-67FA-4D04-A111-F3BD907B4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A684B-1950-4A2F-B8C4-C2659137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5D0ED-6DC5-4335-977C-7C9F72FC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96F3F-EDE6-4046-81C3-CA2BBA04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B8F22-AC98-4CC9-8F70-29971FD8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6C489-3034-4919-800E-2018D665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27A17-7036-4FB1-BB69-23523FFB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C0807-B351-4B12-A690-8DDA9E2B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10B2F-6E01-48BE-B674-52D8A0B0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A6A3-0978-4187-BAC1-1719DE07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D21DD-B63D-463E-BBF4-E6504242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036F1-CF0E-468A-A381-C6BD6AA7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DF706-A6C0-41D9-895C-FBB81F148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8BF40-558F-4709-B758-F94D243F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6BD3C-93BE-49E0-9BFC-7944CFFE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611B1-7E74-420F-815E-F2898526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04CE5-D7BB-47F2-8727-2233EF46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B29D7-98C8-4602-B2FB-0025C056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0A96C-DEEA-46D5-9040-F29D9AB6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4450F-1057-468E-9DCC-3CBF7857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887B-E41B-4072-B373-61F3FC63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E8CBA-6FC0-4858-BD98-468321A6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93E74-303B-4B32-8A96-5D29707C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20DD7-0DD8-41EA-84C8-0215B415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CDAAA-CDDB-4404-9D2C-C99205E8C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1AACB-489F-4712-BC52-A915E4F0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978F9-545F-4C1D-99C5-8170DC75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245DE-EF62-4770-BE93-681559CB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97B03-9890-41BF-829A-4F12B295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DD660-C1A2-4216-A8B3-935C99C6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B5367-5CBB-43AD-9A22-0AFE617B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9FF8-700C-4634-92E4-7D09A436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6461B-48CA-4331-9BA4-3547A086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D5527-353B-4858-8B77-F89AACD0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4A78F-5B7F-4133-91A4-70D9A152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34EC4-4B2E-4E0E-8508-1111C0B5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599E8-2223-4FDA-8275-571510BA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55423-DA21-4626-A465-892853D7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F9749-EAB8-42B8-B7F7-EC4F5CDC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9227E-00C3-4BBB-BD12-629BAFB0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F78EF-D26A-4003-B443-58C54DD9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ABBD0-C372-4C99-BEBD-5060A67A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F6D1-5FF2-4B69-BB75-1C6741586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E9BC-1206-441C-A352-DC01E626B1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2FE4-9E5B-4CED-BFFC-C7D2D608D4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590B-5414-4D3D-8BBF-E6BA7D7CA6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F5A3-17CE-4162-992A-C49EAF3702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7FB8-3682-4C8C-89C6-C4534DCDBE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BEF3-3A6A-4D10-87E6-181C3CDC61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E8E8-B34E-4401-93A0-C268339171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61C3-2AF2-4CAA-BB90-46CF03E437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7A8C-4792-4CD0-B1F9-FFF920804C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C459-FE81-46DF-9C6C-1A3129DF55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D9C1-0599-47B0-9EDF-176ACEAE28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88D7-5F34-4665-971B-F79BD2FBF0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6905-4D69-44B5-811F-B21717D236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52AB-49E0-4468-8D25-A32ADE38FB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9F8C-2B4F-4692-AC6E-D94871A18D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F9A7-DB2B-446B-91C8-367DE24A11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4C35-4080-4E20-A7DE-89D605355D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F33A-6260-4966-9C42-78618EDAFC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6881-A913-4294-B201-27344820E4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0581-DDE4-403F-BBED-64B14DA6EB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07B8-CBE2-4760-960C-96F4F14F97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C692-E0D0-4BE0-8DB2-73346F981A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FAC5-3A9A-4F7D-81F2-5299C32EB1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CCE2-B25D-42A8-927D-4E01888E43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1C10-75EB-4413-AA1E-DB233323F3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EB32-789F-4E21-AF8D-5A517061B6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8D15-13B4-44E4-A511-2CDC4C4C4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30B6-91DB-4728-BB23-5E709FF28E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BC60-FB63-4A60-81FD-02173161D8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54AD-783A-4ECE-8D62-AA08564F38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E796-A388-426D-A295-5DD883B0BE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6E55-7C7D-4A06-8183-D57D34290C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6353-741D-4B31-B491-6C0DE8AA8E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AADE-2A5D-43A3-9A73-57D020FB41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FC0E-16E6-4F42-B858-4826169416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5EEA-3812-422C-94D4-D6709A4DE7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E324-7647-4A5B-BC98-425162D93E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2F11-B5BF-4356-A138-FD0E610644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6D3B-4619-4CB5-98F4-9B08970B07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2052720" y="3181320"/>
            <a:ext cx="503856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Picture 1" descr=""/>
          <p:cNvPicPr/>
          <p:nvPr/>
        </p:nvPicPr>
        <p:blipFill>
          <a:blip r:embed="rId1"/>
          <a:stretch/>
        </p:blipFill>
        <p:spPr>
          <a:xfrm>
            <a:off x="290520" y="919080"/>
            <a:ext cx="8562960" cy="57247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5" descr=""/>
          <p:cNvPicPr/>
          <p:nvPr/>
        </p:nvPicPr>
        <p:blipFill>
          <a:blip r:embed="rId2"/>
          <a:stretch/>
        </p:blipFill>
        <p:spPr>
          <a:xfrm>
            <a:off x="787320" y="3149640"/>
            <a:ext cx="4848480" cy="39060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5" descr=""/>
          <p:cNvPicPr/>
          <p:nvPr/>
        </p:nvPicPr>
        <p:blipFill>
          <a:blip r:embed="rId3"/>
          <a:stretch/>
        </p:blipFill>
        <p:spPr>
          <a:xfrm>
            <a:off x="708120" y="3579840"/>
            <a:ext cx="4846680" cy="39204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5" descr=""/>
          <p:cNvPicPr/>
          <p:nvPr/>
        </p:nvPicPr>
        <p:blipFill>
          <a:blip r:embed="rId4"/>
          <a:stretch/>
        </p:blipFill>
        <p:spPr>
          <a:xfrm>
            <a:off x="700200" y="4065480"/>
            <a:ext cx="4846680" cy="39240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5" descr=""/>
          <p:cNvPicPr/>
          <p:nvPr/>
        </p:nvPicPr>
        <p:blipFill>
          <a:blip r:embed="rId5"/>
          <a:stretch/>
        </p:blipFill>
        <p:spPr>
          <a:xfrm>
            <a:off x="619200" y="4424400"/>
            <a:ext cx="4848120" cy="39204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5" descr=""/>
          <p:cNvPicPr/>
          <p:nvPr/>
        </p:nvPicPr>
        <p:blipFill>
          <a:blip r:embed="rId6"/>
          <a:stretch/>
        </p:blipFill>
        <p:spPr>
          <a:xfrm>
            <a:off x="539640" y="4910040"/>
            <a:ext cx="4846680" cy="39204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5" descr=""/>
          <p:cNvPicPr/>
          <p:nvPr/>
        </p:nvPicPr>
        <p:blipFill>
          <a:blip r:embed="rId7"/>
          <a:stretch/>
        </p:blipFill>
        <p:spPr>
          <a:xfrm>
            <a:off x="460440" y="5332320"/>
            <a:ext cx="4846680" cy="39204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5" descr=""/>
          <p:cNvPicPr/>
          <p:nvPr/>
        </p:nvPicPr>
        <p:blipFill>
          <a:blip r:embed="rId8"/>
          <a:stretch/>
        </p:blipFill>
        <p:spPr>
          <a:xfrm>
            <a:off x="666720" y="5754600"/>
            <a:ext cx="8344080" cy="39204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5" descr=""/>
          <p:cNvPicPr/>
          <p:nvPr/>
        </p:nvPicPr>
        <p:blipFill>
          <a:blip r:embed="rId9"/>
          <a:stretch/>
        </p:blipFill>
        <p:spPr>
          <a:xfrm>
            <a:off x="587520" y="6184800"/>
            <a:ext cx="834372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Picture 1" descr=""/>
          <p:cNvPicPr/>
          <p:nvPr/>
        </p:nvPicPr>
        <p:blipFill>
          <a:blip r:embed="rId1"/>
          <a:stretch/>
        </p:blipFill>
        <p:spPr>
          <a:xfrm>
            <a:off x="357120" y="857160"/>
            <a:ext cx="8448840" cy="392436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2" descr=""/>
          <p:cNvPicPr/>
          <p:nvPr/>
        </p:nvPicPr>
        <p:blipFill>
          <a:blip r:embed="rId2"/>
          <a:stretch/>
        </p:blipFill>
        <p:spPr>
          <a:xfrm>
            <a:off x="1076400" y="4857840"/>
            <a:ext cx="77817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"/>
          <p:cNvPicPr/>
          <p:nvPr/>
        </p:nvPicPr>
        <p:blipFill>
          <a:blip r:embed="rId1"/>
          <a:stretch/>
        </p:blipFill>
        <p:spPr>
          <a:xfrm>
            <a:off x="752400" y="1247760"/>
            <a:ext cx="7639200" cy="436248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5" descr=""/>
          <p:cNvPicPr/>
          <p:nvPr/>
        </p:nvPicPr>
        <p:blipFill>
          <a:blip r:embed="rId2"/>
          <a:stretch/>
        </p:blipFill>
        <p:spPr>
          <a:xfrm>
            <a:off x="382680" y="1247760"/>
            <a:ext cx="8258040" cy="39204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5" descr=""/>
          <p:cNvPicPr/>
          <p:nvPr/>
        </p:nvPicPr>
        <p:blipFill>
          <a:blip r:embed="rId3"/>
          <a:stretch/>
        </p:blipFill>
        <p:spPr>
          <a:xfrm>
            <a:off x="365040" y="1670040"/>
            <a:ext cx="8259840" cy="39204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5" descr=""/>
          <p:cNvPicPr/>
          <p:nvPr/>
        </p:nvPicPr>
        <p:blipFill>
          <a:blip r:embed="rId4"/>
          <a:stretch/>
        </p:blipFill>
        <p:spPr>
          <a:xfrm>
            <a:off x="365040" y="2163600"/>
            <a:ext cx="8259840" cy="39240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5" descr=""/>
          <p:cNvPicPr/>
          <p:nvPr/>
        </p:nvPicPr>
        <p:blipFill>
          <a:blip r:embed="rId5"/>
          <a:stretch/>
        </p:blipFill>
        <p:spPr>
          <a:xfrm>
            <a:off x="349200" y="2585880"/>
            <a:ext cx="8258400" cy="39240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5" descr=""/>
          <p:cNvPicPr/>
          <p:nvPr/>
        </p:nvPicPr>
        <p:blipFill>
          <a:blip r:embed="rId6"/>
          <a:stretch/>
        </p:blipFill>
        <p:spPr>
          <a:xfrm>
            <a:off x="492120" y="2992320"/>
            <a:ext cx="8259840" cy="39240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5" descr=""/>
          <p:cNvPicPr/>
          <p:nvPr/>
        </p:nvPicPr>
        <p:blipFill>
          <a:blip r:embed="rId7"/>
          <a:stretch/>
        </p:blipFill>
        <p:spPr>
          <a:xfrm>
            <a:off x="476280" y="3414600"/>
            <a:ext cx="8258040" cy="39240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5" descr=""/>
          <p:cNvPicPr/>
          <p:nvPr/>
        </p:nvPicPr>
        <p:blipFill>
          <a:blip r:embed="rId8"/>
          <a:stretch/>
        </p:blipFill>
        <p:spPr>
          <a:xfrm>
            <a:off x="619200" y="3908520"/>
            <a:ext cx="8259840" cy="39204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5" descr=""/>
          <p:cNvPicPr/>
          <p:nvPr/>
        </p:nvPicPr>
        <p:blipFill>
          <a:blip r:embed="rId9"/>
          <a:stretch/>
        </p:blipFill>
        <p:spPr>
          <a:xfrm>
            <a:off x="603360" y="4330800"/>
            <a:ext cx="8258040" cy="39204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5" descr=""/>
          <p:cNvPicPr/>
          <p:nvPr/>
        </p:nvPicPr>
        <p:blipFill>
          <a:blip r:embed="rId10"/>
          <a:stretch/>
        </p:blipFill>
        <p:spPr>
          <a:xfrm>
            <a:off x="603360" y="4753080"/>
            <a:ext cx="8258040" cy="39204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5" descr=""/>
          <p:cNvPicPr/>
          <p:nvPr/>
        </p:nvPicPr>
        <p:blipFill>
          <a:blip r:embed="rId11"/>
          <a:stretch/>
        </p:blipFill>
        <p:spPr>
          <a:xfrm>
            <a:off x="587520" y="5175360"/>
            <a:ext cx="825804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4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9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4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5" name="Picture 1" descr=""/>
          <p:cNvPicPr/>
          <p:nvPr/>
        </p:nvPicPr>
        <p:blipFill>
          <a:blip r:embed="rId1"/>
          <a:stretch/>
        </p:blipFill>
        <p:spPr>
          <a:xfrm>
            <a:off x="385920" y="785880"/>
            <a:ext cx="837216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6" name="Picture 2" descr=""/>
          <p:cNvPicPr/>
          <p:nvPr/>
        </p:nvPicPr>
        <p:blipFill>
          <a:blip r:embed="rId1"/>
          <a:stretch/>
        </p:blipFill>
        <p:spPr>
          <a:xfrm>
            <a:off x="509760" y="766800"/>
            <a:ext cx="8124480" cy="601992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5" descr=""/>
          <p:cNvPicPr/>
          <p:nvPr/>
        </p:nvPicPr>
        <p:blipFill>
          <a:blip r:embed="rId2"/>
          <a:stretch/>
        </p:blipFill>
        <p:spPr>
          <a:xfrm>
            <a:off x="442800" y="2903400"/>
            <a:ext cx="8258400" cy="39240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5" descr=""/>
          <p:cNvPicPr/>
          <p:nvPr/>
        </p:nvPicPr>
        <p:blipFill>
          <a:blip r:embed="rId3"/>
          <a:stretch/>
        </p:blipFill>
        <p:spPr>
          <a:xfrm>
            <a:off x="425520" y="3389400"/>
            <a:ext cx="8259840" cy="39204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5" descr=""/>
          <p:cNvPicPr/>
          <p:nvPr/>
        </p:nvPicPr>
        <p:blipFill>
          <a:blip r:embed="rId4"/>
          <a:stretch/>
        </p:blipFill>
        <p:spPr>
          <a:xfrm>
            <a:off x="409680" y="3803760"/>
            <a:ext cx="8258040" cy="39024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5" descr=""/>
          <p:cNvPicPr/>
          <p:nvPr/>
        </p:nvPicPr>
        <p:blipFill>
          <a:blip r:embed="rId5"/>
          <a:stretch/>
        </p:blipFill>
        <p:spPr>
          <a:xfrm>
            <a:off x="536400" y="4216320"/>
            <a:ext cx="8258400" cy="39204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5" descr=""/>
          <p:cNvPicPr/>
          <p:nvPr/>
        </p:nvPicPr>
        <p:blipFill>
          <a:blip r:embed="rId6"/>
          <a:stretch/>
        </p:blipFill>
        <p:spPr>
          <a:xfrm>
            <a:off x="425520" y="4626000"/>
            <a:ext cx="8259840" cy="39060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5" descr=""/>
          <p:cNvPicPr/>
          <p:nvPr/>
        </p:nvPicPr>
        <p:blipFill>
          <a:blip r:embed="rId7"/>
          <a:stretch/>
        </p:blipFill>
        <p:spPr>
          <a:xfrm>
            <a:off x="409680" y="5111640"/>
            <a:ext cx="8258040" cy="39060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5" descr=""/>
          <p:cNvPicPr/>
          <p:nvPr/>
        </p:nvPicPr>
        <p:blipFill>
          <a:blip r:embed="rId8"/>
          <a:stretch/>
        </p:blipFill>
        <p:spPr>
          <a:xfrm>
            <a:off x="393840" y="5524560"/>
            <a:ext cx="8258040" cy="39204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5" descr=""/>
          <p:cNvPicPr/>
          <p:nvPr/>
        </p:nvPicPr>
        <p:blipFill>
          <a:blip r:embed="rId9"/>
          <a:stretch/>
        </p:blipFill>
        <p:spPr>
          <a:xfrm>
            <a:off x="520560" y="5938920"/>
            <a:ext cx="8258400" cy="39204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5" descr=""/>
          <p:cNvPicPr/>
          <p:nvPr/>
        </p:nvPicPr>
        <p:blipFill>
          <a:blip r:embed="rId10"/>
          <a:stretch/>
        </p:blipFill>
        <p:spPr>
          <a:xfrm>
            <a:off x="503280" y="6424560"/>
            <a:ext cx="825984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1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6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1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6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1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6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1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6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1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Picture 1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53440" cy="559116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5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8259840" cy="39204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5" descr=""/>
          <p:cNvPicPr/>
          <p:nvPr/>
        </p:nvPicPr>
        <p:blipFill>
          <a:blip r:embed="rId3"/>
          <a:stretch/>
        </p:blipFill>
        <p:spPr>
          <a:xfrm>
            <a:off x="2728800" y="2838600"/>
            <a:ext cx="2113200" cy="76968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5" descr=""/>
          <p:cNvPicPr/>
          <p:nvPr/>
        </p:nvPicPr>
        <p:blipFill>
          <a:blip r:embed="rId4"/>
          <a:stretch/>
        </p:blipFill>
        <p:spPr>
          <a:xfrm>
            <a:off x="7405560" y="2978280"/>
            <a:ext cx="576360" cy="39204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5" descr=""/>
          <p:cNvPicPr/>
          <p:nvPr/>
        </p:nvPicPr>
        <p:blipFill>
          <a:blip r:embed="rId5"/>
          <a:stretch/>
        </p:blipFill>
        <p:spPr>
          <a:xfrm>
            <a:off x="2728800" y="3630600"/>
            <a:ext cx="2113200" cy="39204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5" descr=""/>
          <p:cNvPicPr/>
          <p:nvPr/>
        </p:nvPicPr>
        <p:blipFill>
          <a:blip r:embed="rId6"/>
          <a:stretch/>
        </p:blipFill>
        <p:spPr>
          <a:xfrm>
            <a:off x="6068880" y="3630600"/>
            <a:ext cx="1633680" cy="39204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5" descr=""/>
          <p:cNvPicPr/>
          <p:nvPr/>
        </p:nvPicPr>
        <p:blipFill>
          <a:blip r:embed="rId7"/>
          <a:stretch/>
        </p:blipFill>
        <p:spPr>
          <a:xfrm>
            <a:off x="1276200" y="4514760"/>
            <a:ext cx="2114640" cy="39060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5" descr=""/>
          <p:cNvPicPr/>
          <p:nvPr/>
        </p:nvPicPr>
        <p:blipFill>
          <a:blip r:embed="rId8"/>
          <a:stretch/>
        </p:blipFill>
        <p:spPr>
          <a:xfrm>
            <a:off x="1260360" y="4944960"/>
            <a:ext cx="2114640" cy="39204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5" descr=""/>
          <p:cNvPicPr/>
          <p:nvPr/>
        </p:nvPicPr>
        <p:blipFill>
          <a:blip r:embed="rId9"/>
          <a:stretch/>
        </p:blipFill>
        <p:spPr>
          <a:xfrm>
            <a:off x="3787920" y="5369040"/>
            <a:ext cx="1091880" cy="39204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5" descr=""/>
          <p:cNvPicPr/>
          <p:nvPr/>
        </p:nvPicPr>
        <p:blipFill>
          <a:blip r:embed="rId10"/>
          <a:stretch/>
        </p:blipFill>
        <p:spPr>
          <a:xfrm>
            <a:off x="3063960" y="5824440"/>
            <a:ext cx="142704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3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8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3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8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3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8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290520" y="857160"/>
            <a:ext cx="4210200" cy="52009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3" descr=""/>
          <p:cNvPicPr/>
          <p:nvPr/>
        </p:nvPicPr>
        <p:blipFill>
          <a:blip r:embed="rId2"/>
          <a:stretch/>
        </p:blipFill>
        <p:spPr>
          <a:xfrm>
            <a:off x="4786200" y="928800"/>
            <a:ext cx="4162680" cy="52768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5" descr=""/>
          <p:cNvPicPr/>
          <p:nvPr/>
        </p:nvPicPr>
        <p:blipFill>
          <a:blip r:embed="rId3"/>
          <a:stretch/>
        </p:blipFill>
        <p:spPr>
          <a:xfrm>
            <a:off x="6276960" y="2946240"/>
            <a:ext cx="2786040" cy="3081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5" descr=""/>
          <p:cNvPicPr/>
          <p:nvPr/>
        </p:nvPicPr>
        <p:blipFill>
          <a:blip r:embed="rId4"/>
          <a:stretch/>
        </p:blipFill>
        <p:spPr>
          <a:xfrm>
            <a:off x="4643280" y="3263760"/>
            <a:ext cx="4429440" cy="3081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5" descr=""/>
          <p:cNvPicPr/>
          <p:nvPr/>
        </p:nvPicPr>
        <p:blipFill>
          <a:blip r:embed="rId5"/>
          <a:stretch/>
        </p:blipFill>
        <p:spPr>
          <a:xfrm>
            <a:off x="4500720" y="3549600"/>
            <a:ext cx="4429080" cy="3081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5" descr=""/>
          <p:cNvPicPr/>
          <p:nvPr/>
        </p:nvPicPr>
        <p:blipFill>
          <a:blip r:embed="rId6"/>
          <a:stretch/>
        </p:blipFill>
        <p:spPr>
          <a:xfrm>
            <a:off x="4500720" y="3840120"/>
            <a:ext cx="4429080" cy="6429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5" descr=""/>
          <p:cNvPicPr/>
          <p:nvPr/>
        </p:nvPicPr>
        <p:blipFill>
          <a:blip r:embed="rId7"/>
          <a:stretch/>
        </p:blipFill>
        <p:spPr>
          <a:xfrm>
            <a:off x="4500720" y="4406760"/>
            <a:ext cx="4429080" cy="3081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5" descr=""/>
          <p:cNvPicPr/>
          <p:nvPr/>
        </p:nvPicPr>
        <p:blipFill>
          <a:blip r:embed="rId8"/>
          <a:stretch/>
        </p:blipFill>
        <p:spPr>
          <a:xfrm>
            <a:off x="4572000" y="4786200"/>
            <a:ext cx="4429080" cy="5000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5" descr=""/>
          <p:cNvPicPr/>
          <p:nvPr/>
        </p:nvPicPr>
        <p:blipFill>
          <a:blip r:embed="rId9"/>
          <a:stretch/>
        </p:blipFill>
        <p:spPr>
          <a:xfrm>
            <a:off x="4572000" y="5313240"/>
            <a:ext cx="4429080" cy="3063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5" descr=""/>
          <p:cNvPicPr/>
          <p:nvPr/>
        </p:nvPicPr>
        <p:blipFill>
          <a:blip r:embed="rId10"/>
          <a:stretch/>
        </p:blipFill>
        <p:spPr>
          <a:xfrm>
            <a:off x="4643280" y="5643720"/>
            <a:ext cx="442944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2" descr=""/>
          <p:cNvPicPr/>
          <p:nvPr/>
        </p:nvPicPr>
        <p:blipFill>
          <a:blip r:embed="rId1"/>
          <a:stretch/>
        </p:blipFill>
        <p:spPr>
          <a:xfrm>
            <a:off x="214200" y="928800"/>
            <a:ext cx="4210200" cy="11905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3" descr=""/>
          <p:cNvPicPr/>
          <p:nvPr/>
        </p:nvPicPr>
        <p:blipFill>
          <a:blip r:embed="rId2"/>
          <a:stretch/>
        </p:blipFill>
        <p:spPr>
          <a:xfrm>
            <a:off x="4786200" y="928800"/>
            <a:ext cx="4152960" cy="47527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5" descr=""/>
          <p:cNvPicPr/>
          <p:nvPr/>
        </p:nvPicPr>
        <p:blipFill>
          <a:blip r:embed="rId3"/>
          <a:stretch/>
        </p:blipFill>
        <p:spPr>
          <a:xfrm>
            <a:off x="6143760" y="3562200"/>
            <a:ext cx="3000240" cy="3081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5" descr=""/>
          <p:cNvPicPr/>
          <p:nvPr/>
        </p:nvPicPr>
        <p:blipFill>
          <a:blip r:embed="rId4"/>
          <a:stretch/>
        </p:blipFill>
        <p:spPr>
          <a:xfrm>
            <a:off x="4572000" y="3898800"/>
            <a:ext cx="4429080" cy="3063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5" descr=""/>
          <p:cNvPicPr/>
          <p:nvPr/>
        </p:nvPicPr>
        <p:blipFill>
          <a:blip r:embed="rId5"/>
          <a:stretch/>
        </p:blipFill>
        <p:spPr>
          <a:xfrm>
            <a:off x="4572000" y="4175280"/>
            <a:ext cx="4429080" cy="3078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5" descr=""/>
          <p:cNvPicPr/>
          <p:nvPr/>
        </p:nvPicPr>
        <p:blipFill>
          <a:blip r:embed="rId6"/>
          <a:stretch/>
        </p:blipFill>
        <p:spPr>
          <a:xfrm>
            <a:off x="4643280" y="4478400"/>
            <a:ext cx="4429440" cy="3078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5" descr=""/>
          <p:cNvPicPr/>
          <p:nvPr/>
        </p:nvPicPr>
        <p:blipFill>
          <a:blip r:embed="rId7"/>
          <a:stretch/>
        </p:blipFill>
        <p:spPr>
          <a:xfrm>
            <a:off x="4572000" y="4764240"/>
            <a:ext cx="4429080" cy="3078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5" descr=""/>
          <p:cNvPicPr/>
          <p:nvPr/>
        </p:nvPicPr>
        <p:blipFill>
          <a:blip r:embed="rId8"/>
          <a:stretch/>
        </p:blipFill>
        <p:spPr>
          <a:xfrm>
            <a:off x="4500720" y="5059440"/>
            <a:ext cx="4429080" cy="3078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5" descr=""/>
          <p:cNvPicPr/>
          <p:nvPr/>
        </p:nvPicPr>
        <p:blipFill>
          <a:blip r:embed="rId9"/>
          <a:stretch/>
        </p:blipFill>
        <p:spPr>
          <a:xfrm>
            <a:off x="4500720" y="5407200"/>
            <a:ext cx="442908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2" descr=""/>
          <p:cNvPicPr/>
          <p:nvPr/>
        </p:nvPicPr>
        <p:blipFill>
          <a:blip r:embed="rId1"/>
          <a:stretch/>
        </p:blipFill>
        <p:spPr>
          <a:xfrm>
            <a:off x="461880" y="785880"/>
            <a:ext cx="8220240" cy="59720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5" descr=""/>
          <p:cNvPicPr/>
          <p:nvPr/>
        </p:nvPicPr>
        <p:blipFill>
          <a:blip r:embed="rId2"/>
          <a:stretch/>
        </p:blipFill>
        <p:spPr>
          <a:xfrm>
            <a:off x="8072280" y="3000240"/>
            <a:ext cx="357480" cy="3081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5" descr=""/>
          <p:cNvPicPr/>
          <p:nvPr/>
        </p:nvPicPr>
        <p:blipFill>
          <a:blip r:embed="rId3"/>
          <a:stretch/>
        </p:blipFill>
        <p:spPr>
          <a:xfrm>
            <a:off x="4572000" y="6407280"/>
            <a:ext cx="25002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2" descr=""/>
          <p:cNvPicPr/>
          <p:nvPr/>
        </p:nvPicPr>
        <p:blipFill>
          <a:blip r:embed="rId1"/>
          <a:stretch/>
        </p:blipFill>
        <p:spPr>
          <a:xfrm>
            <a:off x="447840" y="857160"/>
            <a:ext cx="8248320" cy="57438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5" descr=""/>
          <p:cNvPicPr/>
          <p:nvPr/>
        </p:nvPicPr>
        <p:blipFill>
          <a:blip r:embed="rId2"/>
          <a:stretch/>
        </p:blipFill>
        <p:spPr>
          <a:xfrm>
            <a:off x="571680" y="1630440"/>
            <a:ext cx="4429080" cy="3078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5" descr=""/>
          <p:cNvPicPr/>
          <p:nvPr/>
        </p:nvPicPr>
        <p:blipFill>
          <a:blip r:embed="rId3"/>
          <a:stretch/>
        </p:blipFill>
        <p:spPr>
          <a:xfrm>
            <a:off x="571680" y="2049480"/>
            <a:ext cx="4429080" cy="30780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5" descr=""/>
          <p:cNvPicPr/>
          <p:nvPr/>
        </p:nvPicPr>
        <p:blipFill>
          <a:blip r:embed="rId4"/>
          <a:stretch/>
        </p:blipFill>
        <p:spPr>
          <a:xfrm>
            <a:off x="571680" y="2406600"/>
            <a:ext cx="4429080" cy="3081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5" descr=""/>
          <p:cNvPicPr/>
          <p:nvPr/>
        </p:nvPicPr>
        <p:blipFill>
          <a:blip r:embed="rId5"/>
          <a:stretch/>
        </p:blipFill>
        <p:spPr>
          <a:xfrm>
            <a:off x="642960" y="2786040"/>
            <a:ext cx="4429080" cy="3081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5" descr=""/>
          <p:cNvPicPr/>
          <p:nvPr/>
        </p:nvPicPr>
        <p:blipFill>
          <a:blip r:embed="rId6"/>
          <a:stretch/>
        </p:blipFill>
        <p:spPr>
          <a:xfrm>
            <a:off x="642960" y="3192480"/>
            <a:ext cx="7929720" cy="30780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5" descr=""/>
          <p:cNvPicPr/>
          <p:nvPr/>
        </p:nvPicPr>
        <p:blipFill>
          <a:blip r:embed="rId7"/>
          <a:stretch/>
        </p:blipFill>
        <p:spPr>
          <a:xfrm>
            <a:off x="8072280" y="5572080"/>
            <a:ext cx="35748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2" descr=""/>
          <p:cNvPicPr/>
          <p:nvPr/>
        </p:nvPicPr>
        <p:blipFill>
          <a:blip r:embed="rId1"/>
          <a:stretch/>
        </p:blipFill>
        <p:spPr>
          <a:xfrm>
            <a:off x="447840" y="1204920"/>
            <a:ext cx="8248320" cy="48672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5" descr=""/>
          <p:cNvPicPr/>
          <p:nvPr/>
        </p:nvPicPr>
        <p:blipFill>
          <a:blip r:embed="rId2"/>
          <a:stretch/>
        </p:blipFill>
        <p:spPr>
          <a:xfrm>
            <a:off x="2643120" y="1955880"/>
            <a:ext cx="571680" cy="3063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5" descr=""/>
          <p:cNvPicPr/>
          <p:nvPr/>
        </p:nvPicPr>
        <p:blipFill>
          <a:blip r:embed="rId3"/>
          <a:stretch/>
        </p:blipFill>
        <p:spPr>
          <a:xfrm>
            <a:off x="642960" y="3867120"/>
            <a:ext cx="7929720" cy="3063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5" descr=""/>
          <p:cNvPicPr/>
          <p:nvPr/>
        </p:nvPicPr>
        <p:blipFill>
          <a:blip r:embed="rId4"/>
          <a:stretch/>
        </p:blipFill>
        <p:spPr>
          <a:xfrm>
            <a:off x="785880" y="4214880"/>
            <a:ext cx="7929360" cy="72396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5" descr=""/>
          <p:cNvPicPr/>
          <p:nvPr/>
        </p:nvPicPr>
        <p:blipFill>
          <a:blip r:embed="rId5"/>
          <a:stretch/>
        </p:blipFill>
        <p:spPr>
          <a:xfrm>
            <a:off x="714240" y="4929120"/>
            <a:ext cx="7929720" cy="3081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5" descr=""/>
          <p:cNvPicPr/>
          <p:nvPr/>
        </p:nvPicPr>
        <p:blipFill>
          <a:blip r:embed="rId6"/>
          <a:stretch/>
        </p:blipFill>
        <p:spPr>
          <a:xfrm>
            <a:off x="785880" y="5335560"/>
            <a:ext cx="7929360" cy="30816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5" descr=""/>
          <p:cNvPicPr/>
          <p:nvPr/>
        </p:nvPicPr>
        <p:blipFill>
          <a:blip r:embed="rId7"/>
          <a:stretch/>
        </p:blipFill>
        <p:spPr>
          <a:xfrm>
            <a:off x="652320" y="5764320"/>
            <a:ext cx="792972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Picture 2" descr=""/>
          <p:cNvPicPr/>
          <p:nvPr/>
        </p:nvPicPr>
        <p:blipFill>
          <a:blip r:embed="rId1"/>
          <a:stretch/>
        </p:blipFill>
        <p:spPr>
          <a:xfrm>
            <a:off x="290520" y="838080"/>
            <a:ext cx="8562960" cy="587700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5" descr=""/>
          <p:cNvPicPr/>
          <p:nvPr/>
        </p:nvPicPr>
        <p:blipFill>
          <a:blip r:embed="rId2"/>
          <a:stretch/>
        </p:blipFill>
        <p:spPr>
          <a:xfrm>
            <a:off x="7969320" y="4152960"/>
            <a:ext cx="4824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Picture 2" descr=""/>
          <p:cNvPicPr/>
          <p:nvPr/>
        </p:nvPicPr>
        <p:blipFill>
          <a:blip r:embed="rId1"/>
          <a:stretch/>
        </p:blipFill>
        <p:spPr>
          <a:xfrm>
            <a:off x="785880" y="890640"/>
            <a:ext cx="7943760" cy="13240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3" descr=""/>
          <p:cNvPicPr/>
          <p:nvPr/>
        </p:nvPicPr>
        <p:blipFill>
          <a:blip r:embed="rId2"/>
          <a:stretch/>
        </p:blipFill>
        <p:spPr>
          <a:xfrm>
            <a:off x="214200" y="3000240"/>
            <a:ext cx="8515440" cy="345780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5" descr=""/>
          <p:cNvPicPr/>
          <p:nvPr/>
        </p:nvPicPr>
        <p:blipFill>
          <a:blip r:embed="rId3"/>
          <a:stretch/>
        </p:blipFill>
        <p:spPr>
          <a:xfrm>
            <a:off x="1720800" y="1357200"/>
            <a:ext cx="1049400" cy="3924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5" descr=""/>
          <p:cNvPicPr/>
          <p:nvPr/>
        </p:nvPicPr>
        <p:blipFill>
          <a:blip r:embed="rId4"/>
          <a:stretch/>
        </p:blipFill>
        <p:spPr>
          <a:xfrm>
            <a:off x="3948120" y="1357200"/>
            <a:ext cx="1049400" cy="3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Picture 1" descr=""/>
          <p:cNvPicPr/>
          <p:nvPr/>
        </p:nvPicPr>
        <p:blipFill>
          <a:blip r:embed="rId1"/>
          <a:stretch/>
        </p:blipFill>
        <p:spPr>
          <a:xfrm>
            <a:off x="642960" y="1357200"/>
            <a:ext cx="8077320" cy="330516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5" descr=""/>
          <p:cNvPicPr/>
          <p:nvPr/>
        </p:nvPicPr>
        <p:blipFill>
          <a:blip r:embed="rId2"/>
          <a:stretch/>
        </p:blipFill>
        <p:spPr>
          <a:xfrm>
            <a:off x="585720" y="1357200"/>
            <a:ext cx="7983720" cy="39240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5" descr=""/>
          <p:cNvPicPr/>
          <p:nvPr/>
        </p:nvPicPr>
        <p:blipFill>
          <a:blip r:embed="rId3"/>
          <a:stretch/>
        </p:blipFill>
        <p:spPr>
          <a:xfrm>
            <a:off x="569880" y="1843200"/>
            <a:ext cx="7983720" cy="39204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5" descr=""/>
          <p:cNvPicPr/>
          <p:nvPr/>
        </p:nvPicPr>
        <p:blipFill>
          <a:blip r:embed="rId4"/>
          <a:stretch/>
        </p:blipFill>
        <p:spPr>
          <a:xfrm>
            <a:off x="473040" y="2227320"/>
            <a:ext cx="7983720" cy="39204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5" descr=""/>
          <p:cNvPicPr/>
          <p:nvPr/>
        </p:nvPicPr>
        <p:blipFill>
          <a:blip r:embed="rId5"/>
          <a:stretch/>
        </p:blipFill>
        <p:spPr>
          <a:xfrm>
            <a:off x="457200" y="2712960"/>
            <a:ext cx="7983360" cy="39204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5" descr=""/>
          <p:cNvPicPr/>
          <p:nvPr/>
        </p:nvPicPr>
        <p:blipFill>
          <a:blip r:embed="rId6"/>
          <a:stretch/>
        </p:blipFill>
        <p:spPr>
          <a:xfrm>
            <a:off x="625320" y="3117960"/>
            <a:ext cx="7983720" cy="39204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5" descr=""/>
          <p:cNvPicPr/>
          <p:nvPr/>
        </p:nvPicPr>
        <p:blipFill>
          <a:blip r:embed="rId7"/>
          <a:stretch/>
        </p:blipFill>
        <p:spPr>
          <a:xfrm>
            <a:off x="600120" y="3573360"/>
            <a:ext cx="7983360" cy="39204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5" descr=""/>
          <p:cNvPicPr/>
          <p:nvPr/>
        </p:nvPicPr>
        <p:blipFill>
          <a:blip r:embed="rId8"/>
          <a:stretch/>
        </p:blipFill>
        <p:spPr>
          <a:xfrm>
            <a:off x="727200" y="3987720"/>
            <a:ext cx="798336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4T01:54:11Z</dcterms:modified>
  <cp:revision>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